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BEC-C36A-401B-ABF9-3BCA31A6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073-0FED-4FFB-98C4-2576649A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C22-91ED-4864-9610-3167418D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448-FEC5-4EE0-8AEB-3393A718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FC7-0BC8-4354-91C5-05B866CD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D6F-D116-4B20-8604-81FC9B1C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6CE-9EE7-4D83-890A-9A2F55AF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668-484D-47FB-9F58-EBBEE321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028-3296-4C7D-B1CC-84C5E7D2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845-E8E4-4709-8A1F-9DD08C22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BD3-DE61-435B-BFD0-612DEB25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DC2-AC93-42C8-9354-B6D1E41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F58B-9FA6-49BF-9557-955F71385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5943600"/>
            <a:ext cx="6400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hat is she thinking?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9:06:12Z</dcterms:created>
  <dc:creator>Aberdeen Public Schools</dc:creator>
  <dc:description/>
  <dc:language>en-US</dc:language>
  <cp:lastModifiedBy>Aberdeen Public Schools</cp:lastModifiedBy>
  <dcterms:modified xsi:type="dcterms:W3CDTF">2010-05-24T19:10:46Z</dcterms:modified>
  <cp:revision>2</cp:revision>
  <dc:subject/>
  <dc:title>Slide 1</dc:title>
</cp:coreProperties>
</file>